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6308-200D-4119-B866-92B3A0B6CE8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s://youtu.be/RUzMkLK4XbI?si=muaa5k5hBnXYaut5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AE7E-00AE-4D93-B1ED-2D3C30516C42}" type="slidenum">
              <a:rPr b="0" lang="pl-P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D7B-A563-48E6-BD20-D5D7F505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A02-9471-4D84-90E3-20CF8330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752-56AA-4337-8B5D-3D36871F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53F-F727-4FB2-A754-D797522F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4D84-4F28-4AEA-9603-770F48B5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4D32-DB30-4599-B877-2E01BD3B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EE5C-EE4A-4596-A410-283053F1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06E0-9891-42FF-B83F-0DBDF620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75C1-A88B-407E-A30A-F8DBCD67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A5AD-DD41-4420-8436-3391DDD8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EA8D-7979-417E-8DD4-0A25F63D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825-7CF1-4416-9ED1-57732D87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B912-5893-46B2-ADF9-2792151C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1DF9-1C9A-49A8-960F-51B40651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0903-BB14-4C5C-93FC-CFF98DE0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3A72-E35E-4120-B08E-1CDAE86D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11F4-218B-42CF-B985-0B6B7502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E9B-5DBA-4BAA-8D44-3614E1DA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8B1-C305-404E-B4A9-9486E4A3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068-4E74-4991-8E4E-FB72FE91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F51-2A3C-4519-8C82-4B02D5B6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ED3-801F-4528-8388-B0AFD69F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F99-027E-4682-804E-62558278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638-EEFD-4BC9-A984-4FCF92D8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0DFB-C565-40D8-AF8D-12005C674C3D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472C-CF87-4C84-807A-55557F525AC4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ytuł 1" descr=""/>
          <p:cNvPicPr/>
          <p:nvPr/>
        </p:nvPicPr>
        <p:blipFill>
          <a:blip r:embed="rId1"/>
          <a:stretch/>
        </p:blipFill>
        <p:spPr>
          <a:xfrm>
            <a:off x="281160" y="1390680"/>
            <a:ext cx="8704080" cy="3473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786040" y="6105600"/>
            <a:ext cx="382896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8 kwietnia 2025 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ole tekstowe 3"/>
          <p:cNvSpPr/>
          <p:nvPr/>
        </p:nvSpPr>
        <p:spPr>
          <a:xfrm>
            <a:off x="2214720" y="428760"/>
            <a:ext cx="50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Szkoła Podstawowa nr 2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im. Marii Konopnickiej w Krakow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ole tekstowe 4"/>
          <p:cNvSpPr/>
          <p:nvPr/>
        </p:nvSpPr>
        <p:spPr>
          <a:xfrm>
            <a:off x="1643040" y="485460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SZKOLENIE W RAMACH PROGRAMU ERASMUS PL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ytuł 1" descr=""/>
          <p:cNvPicPr/>
          <p:nvPr/>
        </p:nvPicPr>
        <p:blipFill>
          <a:blip r:embed="rId1"/>
          <a:stretch/>
        </p:blipFill>
        <p:spPr>
          <a:xfrm>
            <a:off x="2523960" y="768240"/>
            <a:ext cx="4071960" cy="1152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857680" y="2214360"/>
            <a:ext cx="33573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ffffff"/>
                </a:solidFill>
                <a:latin typeface="Book Antiqua"/>
              </a:rPr>
              <a:t>CZĘŚĆ 1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ole tekstowe 3"/>
          <p:cNvSpPr/>
          <p:nvPr/>
        </p:nvSpPr>
        <p:spPr>
          <a:xfrm>
            <a:off x="1357200" y="321480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przygotowała mgr Joanna Siemczo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ytuł 1" descr=""/>
          <p:cNvPicPr/>
          <p:nvPr/>
        </p:nvPicPr>
        <p:blipFill>
          <a:blip r:embed="rId1"/>
          <a:stretch/>
        </p:blipFill>
        <p:spPr>
          <a:xfrm>
            <a:off x="433440" y="-6480"/>
            <a:ext cx="8369280" cy="1152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914040" y="928440"/>
            <a:ext cx="7372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DYKTANDO OBRAZKOW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NAUCZYCIEL JAKO NAGRANIE AUDI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REKONSTRUKCJA TEKST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DZIKIE DYKTAND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INTERAKTYWNE DYKTAND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wybiórczy nacisk na czytanie książek przez nauczycieli, podczas gdy uczniowie wielokulturowi piszą dyktando w klasie - Zdjęcie, obraz"/>
          <p:cNvPicPr/>
          <p:nvPr/>
        </p:nvPicPr>
        <p:blipFill>
          <a:blip r:embed="rId2"/>
          <a:stretch/>
        </p:blipFill>
        <p:spPr>
          <a:xfrm>
            <a:off x="1752480" y="3143160"/>
            <a:ext cx="5569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ytuł 1" descr=""/>
          <p:cNvPicPr/>
          <p:nvPr/>
        </p:nvPicPr>
        <p:blipFill>
          <a:blip r:embed="rId1"/>
          <a:stretch/>
        </p:blipFill>
        <p:spPr>
          <a:xfrm>
            <a:off x="1878120" y="-6480"/>
            <a:ext cx="5400720" cy="1152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142640" y="928440"/>
            <a:ext cx="700092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LABIRYNT DŹWIĘKÓ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ŁAMAŃCE JĘZYKOW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OBRAZY Z DŹWIĘKÓ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DŹWIĘKOWE PAŃSTWA-MIAS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AKCENT WYRAZOWY (1,2,3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Book Antiqua"/>
              </a:rPr>
              <a:t>czyli TUPNIJ NÓŻKĄ, KLAŚNIJ RĄCZKĄ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2" descr="WZOROWA WYMOWA - co to takiego? - Wzorowa Wymowa"/>
          <p:cNvPicPr/>
          <p:nvPr/>
        </p:nvPicPr>
        <p:blipFill>
          <a:blip r:embed="rId2"/>
          <a:stretch/>
        </p:blipFill>
        <p:spPr>
          <a:xfrm>
            <a:off x="1133640" y="3571920"/>
            <a:ext cx="7010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ytuł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2" descr="Collocations là gì? Cách học và ghi nhớ collocations"/>
          <p:cNvPicPr/>
          <p:nvPr/>
        </p:nvPicPr>
        <p:blipFill>
          <a:blip r:embed="rId2"/>
          <a:stretch/>
        </p:blipFill>
        <p:spPr>
          <a:xfrm>
            <a:off x="500040" y="1467000"/>
            <a:ext cx="82152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ytuł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2"/>
          <a:srcRect l="0" t="2451" r="0" b="2216"/>
          <a:stretch/>
        </p:blipFill>
        <p:spPr>
          <a:xfrm>
            <a:off x="330120" y="1785960"/>
            <a:ext cx="8550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ytuł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2" descr="Second half? Crossword Clue - Try Hard Guides"/>
          <p:cNvPicPr/>
          <p:nvPr/>
        </p:nvPicPr>
        <p:blipFill>
          <a:blip r:embed="rId2"/>
          <a:stretch/>
        </p:blipFill>
        <p:spPr>
          <a:xfrm>
            <a:off x="289080" y="1571760"/>
            <a:ext cx="8515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ytuł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2" descr="How Can Teachers Use Laughter/Humor As A Teaching Resource?"/>
          <p:cNvPicPr/>
          <p:nvPr/>
        </p:nvPicPr>
        <p:blipFill>
          <a:blip r:embed="rId2"/>
          <a:stretch/>
        </p:blipFill>
        <p:spPr>
          <a:xfrm>
            <a:off x="500040" y="1452600"/>
            <a:ext cx="81090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5-09T15:11:56Z</dcterms:created>
  <dc:creator>HP x2</dc:creator>
  <dc:description/>
  <dc:language>en-US</dc:language>
  <cp:lastModifiedBy>HP x2</cp:lastModifiedBy>
  <dcterms:modified xsi:type="dcterms:W3CDTF">2025-05-11T18:23:31Z</dcterms:modified>
  <cp:revision>3</cp:revision>
  <dc:subject/>
  <dc:title>PART ONE</dc:title>
</cp:coreProperties>
</file>