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B88-BD27-407B-B857-EF195203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49B-CF61-4385-9ADC-B8A6450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DB4-4D58-4D06-B136-72CDB2BB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D6F-90D3-4389-8443-E1F3A9E3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FB8A-159C-49E6-9FD2-7F2B2027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C20-B1FD-4473-9F16-8D474AC1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82B8-EB34-41DD-8430-3C6C64EE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C0BA-8350-4808-94E5-169B5B4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6195-EA5E-4E1B-B7E7-2F6FD162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D3D-B9C7-47CF-A96E-161243A2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262-A9E4-4E09-89F9-C351BC8D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D0F-AC8A-4B59-B89C-776E524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E9A-D7B6-463F-9015-F50A55F3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562-E3EA-4DA3-A00F-7A885B3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21D-D400-493A-9214-F3A44920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9B7B-58B5-41F8-A103-D41DE117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5BCC-0640-4543-A304-A2860ADF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2E2-3FDB-4D12-BC53-74E817F6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BAE-C961-4257-B495-F6597017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021-1D68-45BE-957C-3324AAB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68F-D610-424C-8BCC-2959D8F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292-C547-41E9-89AB-74D0CF9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145-9917-495D-8ABB-00A7505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EA1-27DD-45D5-B8E7-CE6F823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E34A-B7EB-40AC-86AB-619DD9A39B01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D992-407B-454A-BE9F-FF75180EB237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ytuł 1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704080" cy="3473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6105600"/>
            <a:ext cx="38289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8 kwietnia 2025 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ole tekstowe 3"/>
          <p:cNvSpPr/>
          <p:nvPr/>
        </p:nvSpPr>
        <p:spPr>
          <a:xfrm>
            <a:off x="2214720" y="42876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Szkoła Podstawowa nr 2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m. Marii Konopnickiej w Krakow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ole tekstowe 4"/>
          <p:cNvSpPr/>
          <p:nvPr/>
        </p:nvSpPr>
        <p:spPr>
          <a:xfrm>
            <a:off x="1643040" y="485460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SZKOLENIE W RAMACH PROGRAMU ERASMUS P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ytuł 1" descr=""/>
          <p:cNvPicPr/>
          <p:nvPr/>
        </p:nvPicPr>
        <p:blipFill>
          <a:blip r:embed="rId1"/>
          <a:stretch/>
        </p:blipFill>
        <p:spPr>
          <a:xfrm>
            <a:off x="2475000" y="768240"/>
            <a:ext cx="4174920" cy="1152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857680" y="2214360"/>
            <a:ext cx="33573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ffffff"/>
                </a:solidFill>
                <a:latin typeface="Book Antiqua"/>
              </a:rPr>
              <a:t>CZĘŚĆ 2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ole tekstowe 3"/>
          <p:cNvSpPr/>
          <p:nvPr/>
        </p:nvSpPr>
        <p:spPr>
          <a:xfrm>
            <a:off x="1357200" y="32148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przygotowała mgr Katarzyna Pawłow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2" descr="100 Face (Cuisenaire Rods) - Calculate"/>
          <p:cNvPicPr/>
          <p:nvPr/>
        </p:nvPicPr>
        <p:blipFill>
          <a:blip r:embed="rId2"/>
          <a:stretch/>
        </p:blipFill>
        <p:spPr>
          <a:xfrm>
            <a:off x="1000080" y="1428840"/>
            <a:ext cx="7182000" cy="5357880"/>
          </a:xfrm>
          <a:prstGeom prst="rect">
            <a:avLst/>
          </a:prstGeom>
          <a:ln w="57240">
            <a:solidFill>
              <a:srgbClr val="ff38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ytuł 1" descr=""/>
          <p:cNvPicPr/>
          <p:nvPr/>
        </p:nvPicPr>
        <p:blipFill>
          <a:blip r:embed="rId1"/>
          <a:stretch/>
        </p:blipFill>
        <p:spPr>
          <a:xfrm>
            <a:off x="2610000" y="-6480"/>
            <a:ext cx="3882960" cy="1024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571400" y="999720"/>
            <a:ext cx="60721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IELKA UCIECZKA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POPLĄTANE HISTORYJK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FIOLETOWA SUKIENKA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CHODŹ, OPOWIEM CI BAJECZKĘ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Using Storytelling Activities for Social Change &amp; Student Success |  Resilient Educator"/>
          <p:cNvPicPr/>
          <p:nvPr/>
        </p:nvPicPr>
        <p:blipFill>
          <a:blip r:embed="rId2"/>
          <a:stretch/>
        </p:blipFill>
        <p:spPr>
          <a:xfrm>
            <a:off x="1000080" y="3032280"/>
            <a:ext cx="728676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321760" cy="143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743200" y="1571400"/>
            <a:ext cx="4186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MINI PANTOMIM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„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FALA ŻARU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inderella: A Family Pantomime – Friday, June 3"/>
          <p:cNvPicPr/>
          <p:nvPr/>
        </p:nvPicPr>
        <p:blipFill>
          <a:blip r:embed="rId2"/>
          <a:stretch/>
        </p:blipFill>
        <p:spPr>
          <a:xfrm>
            <a:off x="785880" y="2562120"/>
            <a:ext cx="76359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ytuł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6229440" cy="93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857240" y="885600"/>
            <a:ext cx="521496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Book Antiqua"/>
              </a:rPr>
              <a:t>REKLAMA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Book Antiqua"/>
              </a:rPr>
              <a:t>„</a:t>
            </a:r>
            <a:r>
              <a:rPr b="0" lang="pl-PL" sz="2200" spc="-1" strike="noStrike">
                <a:solidFill>
                  <a:srgbClr val="ffffff"/>
                </a:solidFill>
                <a:latin typeface="Book Antiqua"/>
              </a:rPr>
              <a:t>DOG GOLDBERG MACHINE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Book Antiqua"/>
              </a:rPr>
              <a:t>BEZ DŹWIĘK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Book Antiqua"/>
              </a:rPr>
              <a:t>BEZ OBRAZ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Certified Teachers for Online Live Teaching | Elevate K-12"/>
          <p:cNvPicPr/>
          <p:nvPr/>
        </p:nvPicPr>
        <p:blipFill>
          <a:blip r:embed="rId2"/>
          <a:stretch/>
        </p:blipFill>
        <p:spPr>
          <a:xfrm>
            <a:off x="642960" y="2230560"/>
            <a:ext cx="77868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ytuł 1" descr=""/>
          <p:cNvPicPr/>
          <p:nvPr/>
        </p:nvPicPr>
        <p:blipFill>
          <a:blip r:embed="rId1"/>
          <a:stretch/>
        </p:blipFill>
        <p:spPr>
          <a:xfrm>
            <a:off x="1798560" y="-6480"/>
            <a:ext cx="5924520" cy="115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214360" y="999720"/>
            <a:ext cx="50432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ZNAJDŹ BŁĄ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UPORZĄDKUJ WERS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14 Best Educational Songs for Preschoolers and Kids to Memorize"/>
          <p:cNvPicPr/>
          <p:nvPr/>
        </p:nvPicPr>
        <p:blipFill>
          <a:blip r:embed="rId2"/>
          <a:stretch/>
        </p:blipFill>
        <p:spPr>
          <a:xfrm>
            <a:off x="971640" y="1857240"/>
            <a:ext cx="731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ytuł 1" descr=""/>
          <p:cNvPicPr/>
          <p:nvPr/>
        </p:nvPicPr>
        <p:blipFill>
          <a:blip r:embed="rId1"/>
          <a:stretch/>
        </p:blipFill>
        <p:spPr>
          <a:xfrm>
            <a:off x="1420920" y="-165240"/>
            <a:ext cx="6107040" cy="143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56800" y="1285560"/>
            <a:ext cx="65725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WSPÓLNE TWORZENIE, EDYTOWANI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I MODYFIKOWANIE TREŚCI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(monitorowane przez nauczyciel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2" descr="Wikis in Education | PPT"/>
          <p:cNvPicPr/>
          <p:nvPr/>
        </p:nvPicPr>
        <p:blipFill>
          <a:blip r:embed="rId2"/>
          <a:srcRect l="2470" t="17555" r="32098" b="3432"/>
          <a:stretch/>
        </p:blipFill>
        <p:spPr>
          <a:xfrm>
            <a:off x="1438200" y="2643120"/>
            <a:ext cx="620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5-09T15:11:37Z</dcterms:created>
  <dc:creator>HP x2</dc:creator>
  <dc:description/>
  <dc:language>en-US</dc:language>
  <cp:lastModifiedBy>HP x2</cp:lastModifiedBy>
  <dcterms:modified xsi:type="dcterms:W3CDTF">2025-05-11T18:26:58Z</dcterms:modified>
  <cp:revision>3</cp:revision>
  <dc:subject/>
  <dc:title>PART TWO</dc:title>
</cp:coreProperties>
</file>