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396-2609-4FD2-B094-1A6B6BD6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CD7-3DA2-4149-99E1-7173B68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869-3B2D-471B-931D-F866C240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211-3574-4C0F-B080-F6F82CF5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837-8CCD-4CE9-B143-D79076A9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CB6-DF72-421F-B9E6-CBA473A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6369-1650-4832-BA12-F98AC4B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AAB-4E07-476A-B109-C93E610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A231-EBCC-4803-A113-7FFBF82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B7D4-691F-4141-923E-F30EF3E4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4F08-4B63-4176-81FB-63C9E34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BCA-FA4A-4DD3-8384-1E926A6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5750-0406-440E-BE0C-65DB613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665B-6193-431C-A54C-58075E9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D22-E3F8-4EBF-B88E-6B7C7C27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A89B-3AD2-4895-AA30-E7B2B41C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B613-323C-41D9-B6A0-94C87A27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EA847-0BD9-4301-8313-56EB3794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937B3-7855-47C5-9E82-228D1B17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36D05-E61D-4076-8F96-7B4D375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6EA65-C14C-450A-BCBB-F63AA80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60D38-FA42-43DC-8B02-7B6020E4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1E3-17C8-4F92-9E2B-29F7F42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465C0-01AC-44C9-A0C7-9C97C6B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D6471-444C-4486-B155-27AD54A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4567F-E119-4360-8050-F3DC985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D5F25-FC89-42B9-A102-32B3A35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45B38-0C20-4DBB-97E5-30864C3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0DA8C-2D9C-4F7C-AA45-383F5EAE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13FC4-57E2-4430-9DE9-F7DCE9FE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3306-4969-4006-82ED-18BB87E7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04BF-1843-40D4-862C-A6B14A0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D0094-A8F2-42AB-8F97-DC37BAFD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291-8289-4825-9C79-0B6D061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7C7C-428B-424F-98EC-9B7E81F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66B2-E97F-45FB-BBDE-5308515F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3709-65AB-48F3-A1CC-DF6B1C02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A105-6AF4-4462-BEDC-E3521C4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6366-5B79-4D38-8ECD-53D61A4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DC08-3304-413C-9DD0-5DD1AA5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0274-AE13-4E9D-9BB3-61873E77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883F-3BD6-47F9-BDA0-3E9AA60A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81B5-E5BA-4719-9FBF-FCCEC1E6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634-B86E-442D-B2FB-F526994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D00-E788-4199-90B1-89D127C2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691-8E8C-4EE2-BC15-8BCB06B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BCB-97DA-4A98-8350-E67B1652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8F5-E83A-4500-980B-81DFEFB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685B-8E4F-49FD-ACB0-710E8547068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6570-53BB-4A41-A8A1-DE8A56521854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182-EFCB-4DEE-818B-79CA9722706D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9527-E7F2-4A39-AF37-7B9570B8B85B}" type="slidenum">
              <a:rPr b="0" lang="pl-PL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mhHY8mOQ5eo?si=LWnt2jq3ZdqXB323" TargetMode="External"/><Relationship Id="rId2" Type="http://schemas.openxmlformats.org/officeDocument/2006/relationships/hyperlink" Target="https://youtu.be/SbFqQarDM50?si=g4nYLUVgxsrJ2sJ7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Trebuchet MS"/>
              </a:rPr>
              <a:t>ERASMUS +</a:t>
            </a:r>
            <a:r>
              <a:rPr b="0" lang="pl-PL" sz="3200" spc="-1" strike="noStrike">
                <a:solidFill>
                  <a:srgbClr val="ffffff"/>
                </a:solidFill>
                <a:latin typeface="Trebuchet MS"/>
              </a:rPr>
              <a:t> drogą do fizyczneg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Trebuchet MS"/>
              </a:rPr>
              <a:t>i psychicznego rozwoju dzieci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2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66680"/>
          </a:xfrm>
          <a:prstGeom prst="rect">
            <a:avLst/>
          </a:prstGeom>
          <a:solidFill>
            <a:srgbClr val="32606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Dodatkowe materiał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747800"/>
            <a:ext cx="8572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Linki do zasobów onl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www.goNoodle.com – anglojęzyczne aktywności ruchow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www.pecentral.org – pomysły na lekcje WF po angielsku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Propozycje książek i podręczników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"English Through Physical Education" – podręcznik dla nauczyciel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"Healthy Habits for Kids" – książka z pomysłami na zdrowe przepisy i aktywnośc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YouTube kanały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ody Coach, Cosmic Kids Yoga, Kids PE with Joe</a:t>
            </a: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, PE with Mr.G https://www.youtube.com/c/PEwithMr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067040"/>
          </a:xfrm>
          <a:prstGeom prst="rect">
            <a:avLst/>
          </a:prstGeom>
          <a:solidFill>
            <a:srgbClr val="32606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Dziękuję za uwagę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Symbol zastępczy zawartości 5" descr="sachin-singh-evSYUTEv4Zk-unsplash.jpg"/>
          <p:cNvPicPr/>
          <p:nvPr/>
        </p:nvPicPr>
        <p:blipFill>
          <a:blip r:embed="rId1"/>
          <a:stretch/>
        </p:blipFill>
        <p:spPr>
          <a:xfrm>
            <a:off x="971640" y="1928880"/>
            <a:ext cx="72435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Dlaczego warto łączyć WF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z językiem angielskim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143280" y="1857240"/>
            <a:ext cx="92869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Coraz więcej szkół łączy różne dziedziny wiedz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w ramach jednych zajęć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Rozwój kompetencji językowych w kontekście praktyczny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Zwiększenie motywacji uczniów poprzez różnorodność i atrakcyjność zaję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Przygotowanie do aktywności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fizycznej w międzynarodowy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środowisk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Obraz 3" descr="view-diverse-adolescents-practicing-health-wellness-activities-themselves-their-community.jpg"/>
          <p:cNvPicPr/>
          <p:nvPr/>
        </p:nvPicPr>
        <p:blipFill>
          <a:blip r:embed="rId1"/>
          <a:stretch/>
        </p:blipFill>
        <p:spPr>
          <a:xfrm>
            <a:off x="5189400" y="4429080"/>
            <a:ext cx="3959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solidFill>
            <a:srgbClr val="32606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Współczesne wyzwania zdrowotne dzieci i młodzieży (11–15 lat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Zdrowie psychiczn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Wzrost poziomu stresu, niepokoju, braku koncentracji i obniżonego nastroju wśród uczniów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Potrzeba większego wsparcia emocjonalnego i zajęć integrujących grupę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Aktywność fizyczna w Polsce</a:t>
            </a: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zgodnie z zaleceniami WHO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(60 minut ruchu dziennie)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11-latkowie: chłopcy 24%, dziewczęta 19%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13-latkowie: chłopcy 21%, dziewczęta 12%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15-latkowie: chłopcy 21%, dziewczęta tylko 10%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Spadek zaangażowania w zajęcia ruchowe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– </a:t>
            </a: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szczególnie po pandemii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Dieta i styl życi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Zbyt wysokie spożycie przetworzonych produktów i napojów słodzonych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Niska konsumpcja warzyw, owoców i pełnoziarnistych produktów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Narastający problem nadwagi i otyłości, szczególnie u chłopców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38086"/>
                </a:solidFill>
                <a:latin typeface="Georgia"/>
              </a:rPr>
              <a:t>Ponad 50% młodzieży spędza &gt;4 godziny dziennie przed ekranem komputera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Źródła: WHO, Puls Medycyny, raport SDG 2024, mp.pl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Obraz 5" descr="boy-with-burger-meal-beach.jpg"/>
          <p:cNvPicPr/>
          <p:nvPr/>
        </p:nvPicPr>
        <p:blipFill>
          <a:blip r:embed="rId1"/>
          <a:stretch/>
        </p:blipFill>
        <p:spPr>
          <a:xfrm>
            <a:off x="5715000" y="3214800"/>
            <a:ext cx="3000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6572160" cy="106704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Korzyści z integracji języka angielskiego z zajęciami WF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1440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Dla uczniów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Naturalna nauka języka przez ruch i powtarzani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Rozwijanie umiejętności komunikacyjnych w języku obcym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Zwiększenie zaangażowania, pozytywnych emocji i motywacji do aktywności fizycznej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Lepsze zapamiętywanie słówek przez doświadczeni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Dla nauczyciel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Urozmaicenie zajęć i metod nauczani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Możliwość realizacji podstawy programowej z dwóch przedmiotów jednocześni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Obraz 3" descr="group-diverse-teens-young-people-doing-activities-together-celebrating-world-youth-skills-day.jpg"/>
          <p:cNvPicPr/>
          <p:nvPr/>
        </p:nvPicPr>
        <p:blipFill>
          <a:blip r:embed="rId1"/>
          <a:stretch/>
        </p:blipFill>
        <p:spPr>
          <a:xfrm>
            <a:off x="6715080" y="714240"/>
            <a:ext cx="242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Przykłady aktywności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z językiem angielskim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Ćwiczenia indywidualn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Jumping Jacks" – "Do 20 jumping jacks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Push-ups" – "Ten squats, let’s go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Ćwiczenia w parach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Partner stretches" – "Stretch with your partner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Mirror exercises" – "Copy your partner's moves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Ćwiczenia drużynow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Relay race" –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"Pass the baton and run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Tug of war" – "Pull the rope, team!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Obraz 4" descr="anna-samoylova-w55SpMmoPgE-unsplash.jpg"/>
          <p:cNvPicPr/>
          <p:nvPr/>
        </p:nvPicPr>
        <p:blipFill>
          <a:blip r:embed="rId1"/>
          <a:stretch/>
        </p:blipFill>
        <p:spPr>
          <a:xfrm>
            <a:off x="6357960" y="4929120"/>
            <a:ext cx="2786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Polecane filmiki instruktażow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s://youtu.be/mhHY8mOQ5eo?si=LWnt2jq3ZdqXB323</a:t>
            </a: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s://youtu.be/SbFqQarDM50?si=g4nYLUVgxsrJ2sJ7</a:t>
            </a: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https://youtu.be/SbFqQarDM50?si=g4nYLUVgxsrJ2sJ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https://youtu.be/Ffrr_DrAY4E?si=Ylf68bYBN8W2rLB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https://youtu.be/KNzjjHUri2k?si=z_l_AG9qd3sqMsF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https://youtu.be/f3I0kiUeE1U?si=JLYHIyumSkK4O7kK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https://youtu.be/ciafyaQL5F0?si=V473HSceYPNh7fdc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06668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Zdrowa dieta i styl ży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920" y="2249640"/>
            <a:ext cx="8858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Znaczenie zdrowej di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38086"/>
                </a:solidFill>
                <a:latin typeface="Georgia"/>
              </a:rPr>
              <a:t>Wpływ na koncentrację, energię i ogólne samopoczuci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38086"/>
                </a:solidFill>
                <a:latin typeface="Georgia"/>
              </a:rPr>
              <a:t>Zachęcanie do spożywania zdrowych przekąsek (owoców, warzyw i pełnoziarnistych produktów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Rola aktywności fizycznej i zdrowego stylu ży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38086"/>
                </a:solidFill>
                <a:latin typeface="Georgia"/>
              </a:rPr>
              <a:t>Poprawa zdrowia psychicznego i fizyczneg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38086"/>
                </a:solidFill>
                <a:latin typeface="Georgia"/>
              </a:rPr>
              <a:t>Zwiększenie zaangażowania uczniów w zajęcia wychowania fizyczneg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38086"/>
                </a:solidFill>
                <a:latin typeface="Georgia"/>
              </a:rPr>
              <a:t>Sen i odpoczynek – tak samo ważne jak ćwiczeni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1067040"/>
          </a:xfrm>
          <a:prstGeom prst="rect">
            <a:avLst/>
          </a:prstGeom>
          <a:solidFill>
            <a:srgbClr val="3133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Dbałość o zdrowie psychiczne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Trebuchet MS"/>
              </a:rPr>
              <a:t>na lekcjach WF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1999800"/>
            <a:ext cx="885816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Techniki relaksacyjn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Rozgrzewka mentalna:"Deep breathing" – "Let's take a deep breath together.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"Mindfulness" – "Focus on the present moment "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Krótkie ćwiczenia uważności: 2 minuty ciszy i oddychania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eorgia"/>
              </a:rPr>
              <a:t>Wsparcie emocjonaln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Wzmacnianie poczucia wartości: pochwały, praca w grupach, integracja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Rozmowy o emocjach po zajęciach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eorgia"/>
              </a:rPr>
              <a:t>Tworzenie atmosfery zaufania i wsparcia w grupi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067040"/>
          </a:xfrm>
          <a:prstGeom prst="rect">
            <a:avLst/>
          </a:prstGeom>
          <a:solidFill>
            <a:srgbClr val="32606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Podsumowan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1280" y="1785960"/>
            <a:ext cx="8615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Georgia"/>
              </a:rPr>
              <a:t>Integracja języka angielskiego z wychowaniem fizycznym</a:t>
            </a:r>
            <a:r>
              <a:rPr b="0" lang="pl-PL" sz="2400" spc="-1" strike="noStrike">
                <a:solidFill>
                  <a:srgbClr val="000000"/>
                </a:solidFill>
                <a:latin typeface="Georgia"/>
              </a:rPr>
              <a:t> to skuteczna metoda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Rozwoju kompetencji językowy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Osiągania lepszych wyników w nau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Promowania zdrowego stylu życ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Zwiększenia motywacji ucznió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Georgia"/>
              </a:rPr>
              <a:t>Zachęcam do eksperymentowania</a:t>
            </a: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 z różnymi metodami i aktywnościami, aby znaleźć najbardziej efektywne podejście dla swojej grupy uczniów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5-17T16:13:43Z</dcterms:created>
  <dc:creator>HP x2</dc:creator>
  <dc:description/>
  <dc:language>en-US</dc:language>
  <cp:lastModifiedBy>HP x2</cp:lastModifiedBy>
  <dcterms:modified xsi:type="dcterms:W3CDTF">2025-05-18T20:36:55Z</dcterms:modified>
  <cp:revision>2</cp:revision>
  <dc:subject/>
  <dc:title>ERASMUS + drogą do fizycznego  i psychicznego rozwoju dzieci</dc:title>
</cp:coreProperties>
</file>